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OND_MR_M_M_ZWI86TON_Montag.wav" ContentType="audio/x-wav"/>
  <Override PartName="/ppt/media/NND_NNS_M_M_ZWL70TON_Montag.wav" ContentType="audio/x-wav"/>
  <Override PartName="/ppt/media/OMD_OS_M_M_ZWI21TON_Montag.wav" ContentType="audio/x-wav"/>
  <Override PartName="/ppt/media/FRN_OF_M_M_ZWA92TON_Montag.wav" ContentType="audio/x-wav"/>
  <Override PartName="/ppt/media/OMD_WT_M_M_ZWX25TON_Montag.wav" ContentType="audio/x-wav"/>
  <Override PartName="/ppt/media/WMD_RF_A_M_ZW0K8TON_Montag.wav" ContentType="audio/x-wav"/>
  <Override PartName="/ppt/media/WND_OF_J_W_ZW5K3TON_Montag.wav" ContentType="audio/x-wav"/>
  <Override PartName="/ppt/media/BAR_NB_A_M_ZWK63TON_Montag.wav" ContentType="audio/x-wav"/>
  <Override PartName="/ppt/media/WMD_MF_M_M_ZWI95TON_Montag.wav" ContentType="audio/x-wav"/>
  <Override PartName="/ppt/media/BAR_MB_M_M_ZWD21TON_Montag.wav" ContentType="audio/x-wav"/>
  <Override PartName="/ppt/media/image2.jpeg" ContentType="image/jpeg"/>
  <Override PartName="/ppt/media/FRN_SF_M_M_ZW567TON_Montag.wav" ContentType="audio/x-wav"/>
  <Override PartName="/ppt/media/image1.gif" ContentType="image/gif"/>
  <Override PartName="/ppt/media/ALM_HA_A_M_ZW450TON_Montag.wav" ContentType="audio/x-wav"/>
  <Override PartName="/ppt/media/image11.wmf" ContentType="image/x-wmf"/>
  <Override PartName="/ppt/media/image9.wmf" ContentType="image/x-wmf"/>
  <Override PartName="/ppt/media/image8.wmf" ContentType="image/x-wmf"/>
  <Override PartName="/ppt/media/image7.wmf" ContentType="image/x-wmf"/>
  <Override PartName="/ppt/media/image5.jpeg" ContentType="image/jpeg"/>
  <Override PartName="/ppt/media/WND_WF_J_W_ZWT84TON_Montag.wav" ContentType="audio/x-wav"/>
  <Override PartName="/ppt/media/image6.png" ContentType="image/png"/>
  <Override PartName="/ppt/media/image10.wmf" ContentType="image/x-wmf"/>
  <Override PartName="/ppt/media/image4.jpeg" ContentType="image/jpeg"/>
  <Override PartName="/ppt/media/NND_HS_M_M_ZW1I3TON_Montag.wav" ContentType="audio/x-wav"/>
  <Override PartName="/ppt/media/image3.jpeg" ContentType="image/jpeg"/>
  <Override PartName="/ppt/media/WND_NF_M_M_ZWS63TON_Montag.wav" ContentType="audio/x-wav"/>
  <Override PartName="/ppt/media/ALM_NA_M_M_ZW552TON_1_Montag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D8649CC-9F26-4703-BB5A-F170B0D9710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thode: numerisch (nicht kategorial)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im Gegensatz zu Sprachatlan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ve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on den eingezeichneten Städten existieren, mit Ausnahme von Köln und Nürnberg keine Aufnah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lativ homogene Dialektgebiete im 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Nord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1200" spc="-1" strike="noStrike">
                <a:solidFill>
                  <a:srgbClr val="33cc33"/>
                </a:solidFill>
                <a:latin typeface="Arial"/>
              </a:rPr>
              <a:t>Ost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de-DE" sz="1200" spc="-1" strike="noStrike">
                <a:solidFill>
                  <a:srgbClr val="0066ff"/>
                </a:solidFill>
                <a:latin typeface="Arial"/>
              </a:rPr>
              <a:t>Sü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trem heterogenes Gebiet im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West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honetische Ähnlichkeit nur bei geographisch nah gelegenen Ortspaaren, da dunkle Linien kurz und nicht l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as in Deutschland bis jetzt gescha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glisch ist sehr gut aufbereitet, Deutsch nicht, aber nur aus phonetischer S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schreibung von Dialek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.h. aber nicht, dass im Deutschen nichts gemacht worden 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dere Voraussetzungen im Englisc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D35-BE13-4900-8529-9CA80A97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622E-A76D-4E76-A75E-3A028F26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A1E3-96EA-4ECE-BBDA-F51B19FB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646D-43BC-4113-BDB4-C0F9F52A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16C4-CE13-4A98-8B44-E8EFCA0A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16F-8F24-4557-A3B1-D66DAA83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09B-E1FA-4DCC-B827-909CE09D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0D85-4E14-4B98-9D7C-97E78806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15D2-DE54-45CD-BBCD-654FA83A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28BC-5009-46F7-98F8-244CFD17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5399-6971-4610-AA91-21B1346F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0150-A725-4806-8590-0FDDA375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D1AC-B3D1-4A0A-ABA3-D38273F08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prachatlas.de/" TargetMode="External"/><Relationship Id="rId2" Type="http://schemas.openxmlformats.org/officeDocument/2006/relationships/hyperlink" Target="http://www.sprachatlas.de/" TargetMode="External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0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LM_NA_M_M_ZW552TON_1_Montag.wav"/><Relationship Id="rId3" Type="http://schemas.openxmlformats.org/officeDocument/2006/relationships/audio" Target="../media/ALM_HA_A_M_ZW450TON_Montag.wav"/><Relationship Id="rId4" Type="http://schemas.openxmlformats.org/officeDocument/2006/relationships/audio" Target="../media/BAR_MB_M_M_ZWD21TON_Montag.wav"/><Relationship Id="rId5" Type="http://schemas.openxmlformats.org/officeDocument/2006/relationships/audio" Target="../media/BAR_NB_A_M_ZWK63TON_Montag.wav"/><Relationship Id="rId6" Type="http://schemas.openxmlformats.org/officeDocument/2006/relationships/audio" Target="../media/FRN_SF_M_M_ZW567TON_Montag.wav"/><Relationship Id="rId7" Type="http://schemas.openxmlformats.org/officeDocument/2006/relationships/audio" Target="../media/FRN_OF_M_M_ZWA92TON_Montag.wav"/><Relationship Id="rId8" Type="http://schemas.openxmlformats.org/officeDocument/2006/relationships/audio" Target="../media/WMD_MF_M_M_ZWI95TON_Montag.wav"/><Relationship Id="rId9" Type="http://schemas.openxmlformats.org/officeDocument/2006/relationships/audio" Target="../media/WMD_RF_A_M_ZW0K8TON_Montag.wav"/><Relationship Id="rId10" Type="http://schemas.openxmlformats.org/officeDocument/2006/relationships/audio" Target="../media/OMD_WT_M_M_ZWX25TON_Montag.wav"/><Relationship Id="rId11" Type="http://schemas.openxmlformats.org/officeDocument/2006/relationships/audio" Target="../media/OMD_OS_M_M_ZWI21TON_Montag.wav"/><Relationship Id="rId12" Type="http://schemas.openxmlformats.org/officeDocument/2006/relationships/audio" Target="../media/OND_MR_M_M_ZWI86TON_Montag.wav"/><Relationship Id="rId13" Type="http://schemas.openxmlformats.org/officeDocument/2006/relationships/audio" Target="../media/WND_OF_J_W_ZW5K3TON_Montag.wav"/><Relationship Id="rId14" Type="http://schemas.openxmlformats.org/officeDocument/2006/relationships/audio" Target="../media/WND_WF_J_W_ZWT84TON_Montag.wav"/><Relationship Id="rId15" Type="http://schemas.openxmlformats.org/officeDocument/2006/relationships/audio" Target="../media/WND_NF_M_M_ZWS63TON_Montag.wav"/><Relationship Id="rId16" Type="http://schemas.openxmlformats.org/officeDocument/2006/relationships/audio" Target="../media/NND_NNS_M_M_ZWL70TON_Montag.wav"/><Relationship Id="rId17" Type="http://schemas.openxmlformats.org/officeDocument/2006/relationships/audio" Target="../media/NND_HS_M_M_ZW1I3TON_Montag.wav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tudies of variation </a:t>
            </a:r>
            <a:br>
              <a:rPr sz="4400"/>
            </a:b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in German accent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licitas Kleb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Sprachdatensamml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ginn des 20. Jh.: Sprachaufnahmen </a:t>
            </a: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z.T. sehr genau transkribiert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(Teuthonista-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utschrift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stitut für deutsche Sprache (IDS) &amp; Deutsches Sprach Archiv (DSAv), Mannhe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.B. Zwirner Korpus – über 6000 Sprec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onaliginierte Transliteration, aber keine Lautse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1FEC-8B33-4519-9513-CC7C842C2B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Arial"/>
              </a:rPr>
              <a:t>Dialektome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970er: (post-)sprachgeographische Auswertungsmethodologie auf der Datengrundlage von Sprachatlan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beziehung quantitativer u. statistischer Ansät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fdeckung komplexer räumlicher Ordnungsstrukturen (die in den Sprachatlanten so nicht ersichtlich si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264C-941B-45EE-A308-A7EF00B75E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Arial"/>
              </a:rPr>
              <a:t>J. Nerbonne &amp; Ch. Siedle (200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32000" y="198900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ff"/>
                </a:solidFill>
                <a:latin typeface="Arial"/>
              </a:rPr>
              <a:t>„</a:t>
            </a:r>
            <a:r>
              <a:rPr b="0" lang="de-DE" sz="3200" spc="-1" strike="noStrike">
                <a:solidFill>
                  <a:srgbClr val="0066ff"/>
                </a:solidFill>
                <a:latin typeface="Arial"/>
              </a:rPr>
              <a:t>Dialektklassifikation auf der Grundlage aggregierter Ausspracheunterschiede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580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Zeitschrift für Dialektologie und Linguistik 72, S. 129 – 14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Kritik &amp; Ausgangspun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zept und Definition v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lektgebiet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tisch, wenn geografische Verteilung linguistischer Merkmale inkonsistent oder auch widersprüchlich sind, d.h. Dialektmerkmale, die dies- und jenseits einer Grenze vorkommen kö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8A8C-8C46-44A2-B8C4-9700D3D420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Lösungsansa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antitative Analyse von Aussprachähnlichkeiten mitttels großer Datenmengen (186 deutsche Varietäte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rücksichtigung bereits bestehender Datenm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thode: numerisch (additiv) und nicht kateg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timmung von Dialektgebieten unter Berücksichtigung graduellerer Dialektgrenzen (im Gegensatz zu den Grenzen traditioneller Atlan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7DC7-6135-4C8E-88B8-3C5CAE94C5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Me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rechnung von Aussprachedistanzen zw. Dialekten mittels Wortdistanzberechn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evenshtein‘sche Sequenzvergleich: Abstand zw. 2 Sequenzen (hier Wörter) = Summe der Kosten aller nötigen Operationen für eine Sequenz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perationen: Ersetzen, Tilgen, Hinzufü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E85-B80D-4870-A440-941B2D784C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Me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1568520"/>
          <a:ext cx="6059520" cy="3516120"/>
        </p:xfrm>
        <a:graphic>
          <a:graphicData uri="http://schemas.openxmlformats.org/drawingml/2006/table">
            <a:tbl>
              <a:tblPr/>
              <a:tblGrid>
                <a:gridCol w="1440000"/>
                <a:gridCol w="3673440"/>
                <a:gridCol w="946080"/>
              </a:tblGrid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t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ʊə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Doulos SIL"/>
                          <a:ea typeface="Arial Unicode MS"/>
                        </a:rPr>
                        <a:t>ʃ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setze [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ʊ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 mit [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ɔ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t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ɔə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Doulos SIL"/>
                          <a:ea typeface="Arial Unicode MS"/>
                        </a:rPr>
                        <a:t>ʃ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lge [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ə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t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ɔ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Doulos SIL"/>
                          <a:ea typeface="Arial Unicode MS"/>
                        </a:rPr>
                        <a:t>ʃ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üge [t] hinz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t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ɔ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Doulos SIL"/>
                          <a:ea typeface="Arial Unicode MS"/>
                        </a:rPr>
                        <a:t>ʃ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250920" y="1557360"/>
            <a:ext cx="2089080" cy="792000"/>
          </a:xfrm>
          <a:prstGeom prst="wedgeEllipseCallout">
            <a:avLst>
              <a:gd name="adj1" fmla="val 68388"/>
              <a:gd name="adj2" fmla="val -159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213000"/>
            <a:ext cx="2089080" cy="792360"/>
          </a:xfrm>
          <a:prstGeom prst="wedgeEllipseCallout">
            <a:avLst>
              <a:gd name="adj1" fmla="val 65652"/>
              <a:gd name="adj2" fmla="val 457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bru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520524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andsmessung: audit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5877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eeringa (2004): akustisch ermittelte Lautabstä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FD78-4A51-4B04-82B1-DF2A923A22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D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201 Wörter aus den Wenker-Sät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hebung in 186 Orten verteilt über das gesamtbundesdeutsche Gebiet (im Rahmen des Projektes „Kleiner deutscher Lautatlas – Phonetik “ (Göschel 1992*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 Sprecher pro Erhebung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nahmezeitraum: BRD 1960er u. 1970er Jahre, neue Bundesländer nach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PA-Transkription (IPA 1949) (2002 Nachbearbeitung X-Sam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6093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Material unveröffentlicht (verwaltet vom Deutschen Sprachatlas, Mar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5108-167A-45C3-BC4B-DE17F52066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511344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7280" y="301320"/>
            <a:ext cx="47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Ergebn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19520" y="1645920"/>
            <a:ext cx="4392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honetische Abstände zw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all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186 Orten: je kleiner der phonetische Abstand zw. 2 Orten, desto dunkler die Verbindungsli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ografische Kohärenz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onetische Ähnlichkeit nur bei geographisch nah gelegenen Ortspa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95760" y="1254240"/>
            <a:ext cx="41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7E56-A0ED-4330-9879-FF732B1FCC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66ff"/>
                </a:solidFill>
                <a:latin typeface="Arial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gleich aktueller Ergebnisse mit traditioneller Dialekteintei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erarchisch agglomeratives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Clustering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(Jain &amp; Dubes 1988): Identifizierung von Gruppen innerhalb einer Abstandstabelle durch wiederholtes Zusammenfügen der jeweils nächsten El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CE4D-6597-452D-888B-ED8EC58C2A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Einfüh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rechermerkmale: u.a. dialektaler Hintergr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8268-2645-49AB-8461-13FF2E327A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66ff"/>
                </a:solidFill>
                <a:latin typeface="Arial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r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l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c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r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l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c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6156360" y="3902040"/>
            <a:ext cx="936720" cy="647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57C0-5793-4B2F-BF1D-6A0649FD38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66ff"/>
                </a:solidFill>
                <a:latin typeface="Arial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600200"/>
          <a:ext cx="8229600" cy="3772080"/>
        </p:xfrm>
        <a:graphic>
          <a:graphicData uri="http://schemas.openxmlformats.org/drawingml/2006/table">
            <a:tbl>
              <a:tblPr/>
              <a:tblGrid>
                <a:gridCol w="1954080"/>
                <a:gridCol w="1224000"/>
                <a:gridCol w="1513080"/>
                <a:gridCol w="2166840"/>
                <a:gridCol w="1371600"/>
              </a:tblGrid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r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ln-Aac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r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ln-Aac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F7EE-059F-4F86-933F-04176D9452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1504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66ff"/>
                </a:solidFill>
                <a:latin typeface="Arial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16000" y="1458720"/>
            <a:ext cx="424836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teilung der großen Dialektgebiete bestätig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vgl. König 1994; Niebaum &amp; Macha 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rather Lini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hand typischer Merkmale wie dem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Berliner Trichter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der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rzer Dialektenklav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rkenn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alektale Heterogenität im Westen (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heinischer Fäch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blem: kategoriale Dialektgre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ösungsansatz: multidimensionale Skalierung (Torgerson 1952, Heeringa 2004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43280" y="141300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BC9-5315-446B-BF94-354FBF2FBB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65680" y="-316080"/>
            <a:ext cx="527832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4105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066ff"/>
                </a:solidFill>
                <a:latin typeface="Arial"/>
              </a:rPr>
              <a:t>Multidimensionale Skalie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Heeringa 200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285264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den = li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Osten = bl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üden = grün   Westen = 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4437000"/>
            <a:ext cx="43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e Varietät wird in all ihren Abständen zu allen anderen Varietäten 3-dimensional (Farbe = 3.D) repräsent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800" y="16509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C11F-01CF-43D5-9F98-1486825AD6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66ff"/>
                </a:solidFill>
                <a:latin typeface="Arial"/>
              </a:rPr>
              <a:t>J. Herrgen, A. Lameli, S. Rabanus &amp; J.E. Schmidt (200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54200" y="2401920"/>
            <a:ext cx="7624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ialektalität als phonetische Distanz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Ein Verfahren zur Messung standarddivergenter Sprechfo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5376960"/>
            <a:ext cx="82803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Online-Publikation, verfügbar auf 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prachatlas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Vgl. auch </a:t>
            </a:r>
            <a:r>
              <a:rPr b="0" lang="de-DE" sz="2800" spc="-1" strike="noStrike">
                <a:solidFill>
                  <a:srgbClr val="0066ff"/>
                </a:solidFill>
                <a:latin typeface="Arial"/>
              </a:rPr>
              <a:t>Herrgen und Schmidt (198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5373720"/>
            <a:ext cx="82803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Online-Publikation, verfügbar auf 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prachatlas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Vgl. auch </a:t>
            </a:r>
            <a:r>
              <a:rPr b="0" lang="de-DE" sz="2800" spc="-1" strike="noStrike">
                <a:solidFill>
                  <a:srgbClr val="0066ff"/>
                </a:solidFill>
                <a:latin typeface="Arial"/>
              </a:rPr>
              <a:t>Herrgen und Schmidt (198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Z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stimmung phonetisch konstituierter Dialektalität von Äußerungen als Wert für die Lautunterschiede pro Wort (D-We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honetisch konstituierter Dialektalität = phonetischer Abstand regionalsprachlicher Formen zur Standardsprechw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34A4-9611-40B1-AB49-FAE3959DBB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Voraussetz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bildung bekannter Arealstrukturen von Dialektreg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chweis von Dialektabb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gleichbarkeit von Varietäten in unterschiedlichen Regionen (ähnliche Wer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antifizierbarkeit von Sprachwan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raussetz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PA-Transkription der regionalsprachlichen 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ndardsprachliches Bezugssystem (z.B. WDA (1982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511A-D74E-496A-B385-F5DDF05D30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Mess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zellaute der regionalen Varietät und des Bezugssystems werden aufeinander abgebild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alektalitätssrohwerte pro Segmentdifferenzen: Ein Unterschied in einem phonetischen Merkmal = 1 Pun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Vok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ɛ</a:t>
            </a:r>
            <a:r>
              <a:rPr b="0" lang="de-DE" sz="2400" spc="-1" strike="noStrike">
                <a:solidFill>
                  <a:srgbClr val="000000"/>
                </a:solidFill>
                <a:latin typeface="Doulos SIL"/>
                <a:ea typeface="Arial Unicode MS"/>
              </a:rPr>
              <a:t>ʃ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ə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] vs. [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Doulos SIL"/>
                <a:ea typeface="Arial Unicode MS"/>
              </a:rPr>
              <a:t>ʃ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ə] 1 Stufe nach oben von [a] zu [ɛ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] = 1 P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</a:t>
            </a:r>
            <a:r>
              <a:rPr b="0" lang="de-DE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ːzə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] vs. [v</a:t>
            </a:r>
            <a:r>
              <a:rPr b="0" lang="de-DE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ɪːzə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] 0,5 Stufen nach oben/vorne von [</a:t>
            </a:r>
            <a:r>
              <a:rPr b="0" lang="de-DE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ɪ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] zu [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] = o,5 P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B52A-E55C-422B-AC47-7DC689EDC42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18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Arial"/>
              </a:rPr>
              <a:t>A. Lameli (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971280" y="2143080"/>
            <a:ext cx="7056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ff"/>
                </a:solidFill>
                <a:latin typeface="Arial"/>
              </a:rPr>
              <a:t>Hierarchies of dialectal features in a diachronic view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ff"/>
                </a:solidFill>
                <a:latin typeface="Arial"/>
              </a:rPr>
              <a:t>implicational scaling of real tim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4869000"/>
            <a:ext cx="79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In Britt-Louise Gunnarsson [u. a.] (Hrsg.): Language Variation in Europe. Papers from the 2nd Int. Conf. Language Variation in Europe, Uppsala, Sweden, 2003, S. 253–26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Me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rpusanalyse von Stadtratssitz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rachdaten: Mitglieder des Mainzer Stadtr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nahmezeitraum: 1950er &amp; 1990er Jahre; analysierte Daten: 1956, 1959, 1994,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nahmen ursprünglich nicht für wissenschaftliche Zwecke gem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B: kein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real-time data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gl., sondern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apparent-time data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gl., da die Sprecher der 2. Stichprobe nicht die selben Sprecher der ersten Stichprobe s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282-918B-47DB-BBCE-950E23C421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Ein paar Definitionen vorwe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ek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achliche Varietät mit begrenzter räumlicher Geltung im Gegensatz zur überdachenden Standardspra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B: Terminus technicu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nd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ekte unterscheiden sich in vielen sprachliche Merkma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er bzw. mehrerer linguistischer Eben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tik, Phonologie, Morphologie, Syntax, Lexik, Semantik, Pragma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ektbeschreibungen häufig auf allen Eb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elle Untersuchungen zwischen Dialekten hinsichtlich eines Merkmals auf einer Ebene sind se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0C4-9293-4BE4-9B60-ED15F33A4B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Häufigkeitsverteilung 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standarddivergenter Merkmale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8893080" cy="4744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3475-1F83-42DF-8B9B-A7DEEFF6D89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Häufigkeitsverteilung 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standarddivergenter Merkmale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608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AA29-F531-4383-961A-EAE1C6EDDD3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533052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=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=     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66ff"/>
                </a:solidFill>
                <a:latin typeface="Arial"/>
              </a:rPr>
              <a:t>Implicational Sc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8360" y="2184480"/>
            <a:ext cx="8207280" cy="2336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278080" y="5354640"/>
            <a:ext cx="144360" cy="93672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27280" y="533700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wendung eines dialektalen Merkmal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13510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Hierarchie der stabilsten Dialektmerk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35640" y="4581360"/>
            <a:ext cx="3384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265A-257F-4ED7-937E-376DF71218A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54160" y="0"/>
            <a:ext cx="8604000" cy="6867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06280" y="46080"/>
            <a:ext cx="8820360" cy="691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365C-0568-4EF9-A36D-0CE9AE4757A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Zusammenfassung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alysen beruhen auf auditiven Transkrip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honetik als Hilfsmittel, um Dialektalität festzus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wertung akustischer Daten fehlt : insb. bei Vokalen (z.B. Formantanalysen) als instabilen und dennoch bedeutenden Dialektmerkm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gl. Studien z.B. zum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American English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Labov et al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he Atlas of North American English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  Clopper et al.) oder auch zu Niederländisch (Adank et al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868A-BE6C-45C5-8FD0-E27A2129266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Zusammenfassung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chiebung vieler regionaler Dialekte hin zu weniger supraregionalen Varietäten konnte global gezeig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er: Vokale weiterhin Merkmale kleinräumiger Dialektarea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achron-synchroner Vgl. auch bei experimentalphonetischen Dialektuntersuchungen sinnvoll, da so paralleler Einfluss von Standardsprache und regionaler Varietät sichtbar gemacht und Entwicklungen erklärt werden kön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3FFA-6935-4208-8DE2-F27172ACD3D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Einfüh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 innerhalb eines Dialek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lmundar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bmund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schaftlich gefärbte Umgangssprach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C9D7-B927-41B7-AC06-3F5D64DD2A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Einfüh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arietäten und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achrone Variation </a:t>
            </a: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Lautwa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s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pund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hd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p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mak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hd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mahh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ynchrone Variation </a:t>
            </a: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Dialekte Niederdeutsch: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mak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vs. Oberdeutsch: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ma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C278-97F7-425A-B081-B4EB968B36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4600" y="157320"/>
            <a:ext cx="5219640" cy="666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16200000">
            <a:off x="-127800" y="1575000"/>
            <a:ext cx="5869080" cy="3959280"/>
          </a:xfrm>
          <a:prstGeom prst="rightArrow">
            <a:avLst>
              <a:gd name="adj1" fmla="val 56380"/>
              <a:gd name="adj2" fmla="val 4716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99200" y="591984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83259"/>
              <a:gd name="adj4" fmla="val -1037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telbair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65920" y="547056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-61231"/>
              <a:gd name="adj4" fmla="val -848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dbair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4360" y="4584600"/>
            <a:ext cx="2519640" cy="360360"/>
          </a:xfrm>
          <a:prstGeom prst="borderCallout1">
            <a:avLst>
              <a:gd name="adj1" fmla="val 18750"/>
              <a:gd name="adj2" fmla="val -8333"/>
              <a:gd name="adj3" fmla="val -39648"/>
              <a:gd name="adj4" fmla="val -1128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frän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3284640"/>
            <a:ext cx="2519640" cy="360360"/>
          </a:xfrm>
          <a:prstGeom prst="borderCallout1">
            <a:avLst>
              <a:gd name="adj1" fmla="val 18750"/>
              <a:gd name="adj2" fmla="val -8333"/>
              <a:gd name="adj3" fmla="val 102643"/>
              <a:gd name="adj4" fmla="val -123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thüring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0240" y="963720"/>
            <a:ext cx="2519280" cy="371520"/>
          </a:xfrm>
          <a:prstGeom prst="borderCallout1">
            <a:avLst>
              <a:gd name="adj1" fmla="val 18750"/>
              <a:gd name="adj2" fmla="val -8333"/>
              <a:gd name="adj3" fmla="val 250000"/>
              <a:gd name="adj4" fmla="val -1424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ederfrän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16640" y="9684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256828"/>
              <a:gd name="adj4" fmla="val -153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stei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08520" y="544680"/>
            <a:ext cx="2519640" cy="360360"/>
          </a:xfrm>
          <a:prstGeom prst="borderCallout1">
            <a:avLst>
              <a:gd name="adj1" fmla="val 18750"/>
              <a:gd name="adj2" fmla="val -8333"/>
              <a:gd name="adj3" fmla="val 186342"/>
              <a:gd name="adj4" fmla="val -138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dniedersächs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75440" y="1465200"/>
            <a:ext cx="2662200" cy="360360"/>
          </a:xfrm>
          <a:prstGeom prst="borderCallout1">
            <a:avLst>
              <a:gd name="adj1" fmla="val 18750"/>
              <a:gd name="adj2" fmla="val -8333"/>
              <a:gd name="adj3" fmla="val 288546"/>
              <a:gd name="adj4" fmla="val -1265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fäl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440" y="193032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70486"/>
              <a:gd name="adj4" fmla="val -1328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fäl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05560" y="240048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-83699"/>
              <a:gd name="adj4" fmla="val -87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är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9720" y="284940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174009"/>
              <a:gd name="adj4" fmla="val -867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ersächs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32480" y="375768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140087"/>
              <a:gd name="adj4" fmla="val -1894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einfrän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03640" y="4191120"/>
            <a:ext cx="2519640" cy="360360"/>
          </a:xfrm>
          <a:prstGeom prst="borderCallout1">
            <a:avLst>
              <a:gd name="adj1" fmla="val 18750"/>
              <a:gd name="adj2" fmla="val -8333"/>
              <a:gd name="adj3" fmla="val -196476"/>
              <a:gd name="adj4" fmla="val -160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telfrän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7040" y="503568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-57708"/>
              <a:gd name="adj4" fmla="val -106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üdfrän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2720" y="638640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-263435"/>
              <a:gd name="adj4" fmla="val -1289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wäb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71560" y="630864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-77532"/>
              <a:gd name="adj4" fmla="val -168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iederalema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305080"/>
            <a:ext cx="4897440" cy="2295360"/>
          </a:xfrm>
          <a:prstGeom prst="leftRightArrow">
            <a:avLst>
              <a:gd name="adj1" fmla="val 67222"/>
              <a:gd name="adj2" fmla="val 41843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e Aufnahmen aus dem DSAv: Zwirner-Kor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7AA5-837B-4CD5-9CE1-2AA5D9861F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LM_NA_M_M_ZW552TON_1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LM_HA_A_M_ZW450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AR_MB_M_M_ZWD21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AR_NB_A_M_ZWK63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RN_SF_M_M_ZW567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RN_OF_M_M_ZWA92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MD_MF_M_M_ZWI95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MD_RF_A_M_ZW0K8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OMD_WT_M_M_ZWX25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OMD_OS_M_M_ZWI21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OND_MR_M_M_ZWI86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ND_OF_J_W_ZW5K3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ND_WF_J_W_ZWT84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ND_NF_M_M_ZWS63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NND_NNS_M_M_ZWL70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NND_HS_M_M_ZW1I3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666900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0" y="1831680"/>
            <a:ext cx="4852440" cy="1741320"/>
            <a:chOff x="0" y="1831680"/>
            <a:chExt cx="4852440" cy="1741320"/>
          </a:xfrm>
        </p:grpSpPr>
        <p:sp>
          <p:nvSpPr>
            <p:cNvPr id="84" name=""/>
            <p:cNvSpPr/>
            <p:nvPr/>
          </p:nvSpPr>
          <p:spPr>
            <a:xfrm flipV="1">
              <a:off x="0" y="3269160"/>
              <a:ext cx="523080" cy="303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3080" y="3269160"/>
              <a:ext cx="447120" cy="151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970560" y="2208600"/>
              <a:ext cx="3135240" cy="121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105800" y="1831680"/>
              <a:ext cx="0" cy="376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05800" y="1832040"/>
              <a:ext cx="299520" cy="302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405320" y="2058120"/>
              <a:ext cx="447120" cy="75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083960" y="3701520"/>
            <a:ext cx="2663280" cy="1369080"/>
            <a:chOff x="1083960" y="3701520"/>
            <a:chExt cx="2663280" cy="1369080"/>
          </a:xfrm>
        </p:grpSpPr>
        <p:sp>
          <p:nvSpPr>
            <p:cNvPr id="91" name=""/>
            <p:cNvSpPr/>
            <p:nvPr/>
          </p:nvSpPr>
          <p:spPr>
            <a:xfrm flipH="1" flipV="1">
              <a:off x="2810880" y="3701520"/>
              <a:ext cx="93636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083960" y="3701880"/>
              <a:ext cx="1726920" cy="136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 flipH="1">
            <a:off x="0" y="3375000"/>
            <a:ext cx="1187280" cy="7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84000" y="3255840"/>
            <a:ext cx="718920" cy="175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6000" y="1741320"/>
            <a:ext cx="3097080" cy="1656000"/>
          </a:xfrm>
          <a:prstGeom prst="borderCallout1">
            <a:avLst>
              <a:gd name="adj1" fmla="val 18750"/>
              <a:gd name="adj2" fmla="val -8333"/>
              <a:gd name="adj3" fmla="val 18407"/>
              <a:gd name="adj4" fmla="val -29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derdeutsch /Hochdeutsch-Gr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5043600"/>
            <a:ext cx="3097080" cy="1584360"/>
          </a:xfrm>
          <a:prstGeom prst="borderCallout1">
            <a:avLst>
              <a:gd name="adj1" fmla="val 18750"/>
              <a:gd name="adj2" fmla="val -8333"/>
              <a:gd name="adj3" fmla="val -63425"/>
              <a:gd name="adj4" fmla="val -69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teldeutsch /Oberdeutsch-Gr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3645000"/>
            <a:ext cx="3097080" cy="1152360"/>
          </a:xfrm>
          <a:prstGeom prst="borderCallout1">
            <a:avLst>
              <a:gd name="adj1" fmla="val 18750"/>
              <a:gd name="adj2" fmla="val -8333"/>
              <a:gd name="adj3" fmla="val 61708"/>
              <a:gd name="adj4" fmla="val -166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einischer Fä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03960" y="41760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Geographisches Dialektk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E688-0FBD-4C22-956F-DF016273A2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66ff"/>
                </a:solidFill>
                <a:latin typeface="Arial"/>
              </a:rPr>
              <a:t>Germanistische Dialektolo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9 Jh.: Georg Wenker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Fragebogenerhebung (indirekte Methode) an ca. 40 000 Schulorten im Deutschen Reich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1 Gewährsperson pro Erhebung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alektgeographi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ographisch organisierte Dokumentation lokaler Diale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nd über Jahrzehnte im Zentrum germanistischer Dialektolog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rtierung von Isoglos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ellung von Sprachatlan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52F-D459-42F1-A1C1-02BAA9ABAC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Sprachat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8480" y="1560600"/>
            <a:ext cx="7013520" cy="5005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D44-3B7B-41E6-B1C6-9111F0F227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4:06:03Z</dcterms:created>
  <dc:creator> </dc:creator>
  <dc:description/>
  <dc:language>en-US</dc:language>
  <cp:lastModifiedBy> </cp:lastModifiedBy>
  <dcterms:modified xsi:type="dcterms:W3CDTF">2007-10-22T14:06:04Z</dcterms:modified>
  <cp:revision>49</cp:revision>
  <dc:subject/>
  <dc:title>Studies of variation  in German accents </dc:title>
</cp:coreProperties>
</file>